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598-A386-4E95-B6F0-317010F6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B6F-DA31-4FBD-A7D0-EB6D57A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C00E1-99FB-4AF4-AFCE-8EA4178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2806E-E9C3-45EC-8F5D-C841673E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96112-3F57-464F-87FD-0840BF2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50AD-E128-45F2-93EC-5F04A80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21AD1-C3ED-4430-8294-68DAF2C2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DF8B-0D93-401C-9ED4-C7FABA3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FDDE1-B93E-4FA7-850F-D369C468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B4D5-1CCA-4C0A-90EB-263AA653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A5F6-D1B3-432F-B1C5-12A730F7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78594-9B67-4591-87CF-FFDE8B07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62C-3B07-4481-AC79-17B86661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E689A-784D-4361-AB8C-8EF2507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5180F-D97E-4D59-B259-9B43EDF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20DBE-F55B-4D67-824B-B50C5C4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8114-6C8C-44CD-9BCB-6C0A712C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D5BFF-5D04-45E6-AC7E-32A0B063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4CA31-4304-446A-9545-CDF5BE3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42E19-5BF3-4DFC-98D8-B5895BB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0452-6B12-4A39-963B-E31576A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4AF7D-3BA4-4BE8-B331-1CB046D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ACEEB-6E7B-4BCC-A55E-8C74BF9D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1C2-4B85-4C19-80D9-2FB8BF7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858B4-5F52-46C1-A9B5-AE038718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A0535-1F03-46F1-856C-7DCB98F1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C3E0D-A888-4FEB-AAB9-2421A2C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96EB-3C36-4BB4-8259-636F0DE7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D9496-271E-4334-8B40-A308E0B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619F0-3751-4329-BE42-40B24C9A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9EBF-992C-4DE2-8EBD-7B94A0BB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1C5D2-5AB6-43D3-88C7-42C53D4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6F1CE-1376-4B3A-A623-866E747F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DC160-AF4A-442D-999D-6F5AD81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E519-519C-4E5F-A334-1E4BEA99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841A-66B4-405B-BDB8-A4ECE1DA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A816-F201-4307-B8FA-BC0E2BDA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F6F92-E03D-42D9-BF8D-22588557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1BBE3-5AE3-47CF-8B88-9EC33673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694C4-BBDF-4D94-A2E9-6316F517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70BE8-CDA9-4CB8-AF74-8F18C7CD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02716-1EC3-4BCB-A6E3-D6E0E2B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3A325-1F2D-4C4E-A9AF-7E643F8B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52710-6565-4930-845F-8DBDC0B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F9372-BA60-47C9-82A1-F9AB77F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0ABA-ACE2-4901-AB19-24FDC95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60792-56C3-49BF-BB9F-79CD3F1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DED0F-3F6B-4FE5-8FE2-AB455B1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2049D-742C-4648-992C-13A7A7E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143AF-4704-4BE3-A4D0-BB9B0F21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A47FB-39B4-4497-A007-91397644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6F4FC-D8F5-49DC-990E-2D122CAA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FAAAB-AD57-4A43-9279-5401D529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FBF2F-F1C6-4290-9E11-9D05FDD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A0EC-4FF0-4B74-A03F-ABAD92ED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5F895-1F12-4E01-B5DB-42F01E0A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9BD-56C1-4DB0-91C3-6D96B0C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BAEC3-15BA-4333-B362-09A86156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477FE-E141-4E91-A168-3B62A30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0590-A36B-44C8-B068-B8AC90D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31A8A-567A-4875-9162-D68274F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71B0B-68DE-45D5-8BAA-7BCAA321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8EB07-AB92-4AB2-997E-D403EA5E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3A9E7-22DE-406E-BF9C-3584D130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72F72-F4C3-40CF-9621-40BC350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F76C7-FF9A-4041-8E3F-A5706FF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68C90-3352-477B-BA37-C345544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6C00-F1F2-416C-B716-232BEA2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1A5AD-C4FD-434B-B9E3-C3F81F17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DA6B9-25FC-415E-9459-34709E97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C5098-33EE-418F-964E-30AD635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F0878-3561-45E7-A780-18E1B98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74F35-FC07-43FE-814A-1E381DC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CD9AD-5CED-4FE8-BBAD-C148EB9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57819-CF45-415C-9915-D51388C7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D9E3B-5D2B-4538-A05A-7D1594F4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01BC0-5537-4324-92E2-22B2858F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F4F8B-05C2-493C-A5EA-FE807AF9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E050-DACA-4728-B9B0-D3C5482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0A11A-296E-45AB-BA74-C0C3D2B5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7257E-1EBA-4284-9E94-5314DEC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B5AB4-2314-47F0-A13F-2C74139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CE0B5-AA37-45DC-A7E6-E4C0FDD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4C98A-FE1D-4EA4-9158-EF8B904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98032-E453-40FA-AC14-F6BF396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6EF2D-966A-4D59-BD31-2C32BD6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97FAC-2B67-4640-B817-3254A15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770E6-C56C-4312-9FFA-B2E18E8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8C9F8-6D0A-4455-8597-17DE2A6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484-5781-4B99-A59E-6A6B5C8D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8E5C2-D9A4-4038-93C5-9B392980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7456C-E617-4737-85BE-1DA025E1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26A55-FA07-43B5-8018-A328383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145F8-8735-4B4A-ABD1-2A5F69D8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DC653-403E-4288-9214-7444186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EA3F8-949E-4528-BDCF-F3A7454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D7A6C-1F8B-4090-9E45-5533350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8D04D-75ED-4569-9C71-4047CEF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FB370-DA05-4C68-BE9E-A353D1B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52B3B-96E7-452C-930A-24F966A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B0D6-1BBD-411B-B50E-F95B84D7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87166-E900-4909-9460-D260CFF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0B2DD-FD9A-4B93-A025-E42581A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E38F0-256A-4C7E-BAFC-6DFB1B1F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5BA16-AD56-4BA9-80D1-D6245BA1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8011C-86A4-47D5-BF6C-8F219AF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6A221-B629-4C89-AD46-4A7DD1C1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2FE11-FC74-403D-A4D2-DC0E011D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236EF-FD1C-45B7-9376-6AC20B8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242E3-1CC4-4E50-B7BA-553E8DF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E359F-1B31-449C-88C4-1C39563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D7E-1A50-4BDD-B1D8-131D80D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08D-975D-48BE-851C-D6E0F1C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AB1A0-F326-414D-8BB3-618D192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94E09-9536-4909-8CCB-00F2E34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178A2-C784-4FEC-8652-E4BE6628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0357E-F75A-46A7-AB06-E207F875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F8530-24C4-45DD-A69F-5B70134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EA01D-FB16-4F31-907C-1D77FC9D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4E17B-7F0F-4411-B249-0740E80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A8C00-2FD8-409A-B4E4-D448BFC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CC86D-F5EC-48A8-8818-7E982080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F1DF3-76DE-4B1F-BE98-3BC772BB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5EC-04EA-4C82-86D3-53DDB95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02793-6E73-4319-AE09-A44666E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EA3DE-25D4-4863-9363-B67568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A5691-2FE7-49A2-818D-69DA9CF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26158-F0DF-4202-9910-B2F64E6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6C68E-D593-41ED-8543-E799A4A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50441-EDFA-4D92-BFF0-F5E84435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BA92A-A437-4E54-899C-109F6AF2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20797-7F4D-4F84-9E22-30C77C21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ED02D-3D29-433D-9D35-A068493A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16853-6CB6-4EE1-9A16-85373CAB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D1A-B2C5-4E0F-901D-74D5D574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5E2CE-252D-4289-8022-5888DB6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E2D7E-4A13-4FB9-9E3E-922BE34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F92AF-39D8-4047-8A8E-DFD729A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7DA94-FA00-43A5-AF79-D022D66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4A99C-6F76-4259-837C-343ABDA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84B4A-81A0-4360-BA7C-5F1BE02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B3FAC-7591-4753-A3EC-9C244476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EEB06-487D-4E86-BD8D-B82CCCB7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C1BDA-E20F-4012-B7F0-F3AA2333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47927-DB5F-4AF5-92DF-A32C4FFD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4908-67EC-4C8B-928B-A6CB0018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E6F7B-82EF-45ED-819C-4F6A5DE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C63C7-2D9C-4BED-A839-4E9B39B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006A3-F43F-4E9C-BD4A-BD1FCDE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A1500-A838-471F-85C6-EE18A6E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A9C63-F551-4DA8-8077-FC42AB5D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BC149-A060-4ED2-9917-9F7E659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34E16-CB16-4F47-860E-C3DE69A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8462F-3D2D-4458-A5DA-4ED59BB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08750-BBBB-4263-AA70-1975AB19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0B6A0-791E-4336-A9EE-3B22235D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2D2-4506-421F-BBF2-F3B1D3F9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6FA95-A070-4BAE-9E18-BF86C5FF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BA73E-5C3D-4FCD-850F-89E5F30B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AF7F3-AD45-43F7-AF34-7BA8F3B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DDFF5-C9FF-40B1-BFA8-DBE7DC3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5BF39-D665-4047-B496-F678BB8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69FC8-39C3-465A-BF08-A17A0B1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D4191-D98F-41AC-B4D4-B5F25FAA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09F0D-8846-4356-ABE0-5A7CA5E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BB72A-570E-4B98-9188-A7CECC48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16F17-5174-4578-A871-53749E7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77AF-3157-4DEB-997A-A5433973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E749F-2615-47EF-A94F-0B715AD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DEEB9-F157-40D3-9EC9-C97A9AB5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E4963-5F89-4298-9195-045AF8B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E82B4-4A69-4291-AE60-70FDA4EE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7E364-1F7D-4106-BD30-D133A9A8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1EAD6-B2B3-41A7-AED9-C19C657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3285D-B56F-4219-B7F5-51200801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E6D9D1-1A71-43EB-9248-6DA7CD3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DE5968-DE26-464D-AAFC-FC1A478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DA1B0-ADAD-4CDC-9908-A9BA05A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22EF-4ABE-4B18-82A3-C2C17EA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1D80E3-70D0-44AD-A4B2-C1A4D422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A94E9-8A3B-447E-BCEC-93E3F50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D7489-B50F-45DD-AF49-FCD05D5C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32F9A9-4840-40B3-851E-0396F30E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20391-9649-46F1-A55C-1ED1F6E1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832890-AC60-488D-BB58-A45942EA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95BEC2-9B22-4171-996D-CCFF0C9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870F7-BB1C-4181-9171-107B485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8EF17-D670-4A50-A1B8-D6AD87E4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CD679-B1AD-4959-A706-B805807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D390-3FC8-4977-88DC-D509B167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2ED16-DE73-47CC-8B4E-6A67AA1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8D5ADE-6EA2-485F-9B5A-4C5889F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90C363-7A28-4A8A-8C95-AD5CF33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55523-FEBB-4703-AF0B-B2CC45C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4A51C-6DE4-4174-A26F-9ADB228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C7655F-7978-4416-8A65-DAD130A5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92FDA9-A3A8-4F61-89CF-445BD2A1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2F46-67F2-4E6D-BAD0-41E2C50D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ECED-C6A3-40E6-AAC1-C6EFE5C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B02-A772-4885-86B0-C283EAA7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9455-09AE-4E9A-99F6-4198847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DCAF-FB9F-435C-8409-0D81640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1FF9-FE7C-4DD7-8225-B9998F8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9D0C-4148-45D4-99B0-4F834B7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7CFA-BEEA-48FA-A7A4-10A468C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3A74-EA5D-4A3C-B222-4B24270F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CEEF-7446-490F-B641-9048B9A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04A6-286F-42EE-9F4F-CC3F93A4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B540F-C350-4308-9935-1629687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534B-0D14-40A8-962C-2C11EE0E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B55-1711-4519-B4BC-C78146E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0B24-80C6-4C8C-AE2D-7A3BE52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CF0B-082D-4FCE-BAF0-7FAD0BA2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F458-0732-44F5-B72E-6E5AAC48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08D6-F0B7-414C-978E-93E082D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4BC9-7605-4195-93C5-6928B62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034D-71A1-4B9A-81CD-B30A470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68DA-D057-49E3-92AA-247861B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8F2F-22CD-4504-941A-CE5314A5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64C5-C3EE-41A5-AEE2-576A2AD5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38B7-8164-47B0-AA50-BF24119F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76F-FD36-4A0A-B649-3DACC7F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0335-2C3B-4D15-A5BB-F3388CF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862E-EDAA-42D4-9109-1878775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0024-C6E4-46B3-B1BE-D827C618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2828-AD53-4ECF-A117-155BA65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1AEB6-1DDE-4005-80BD-2DA5C49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2149-0A5D-4902-9A7F-9FA9F50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529F-5F35-45F1-8EED-A88AB1C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9ADD-ED76-4E1D-B990-40BE6A3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8E25-B0BE-416D-9D1C-9A9C6B4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FE26-DDA2-4944-ACCB-9130CFCC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2C4-FB92-47DA-A88C-855445B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CB04-5BAC-423D-B2CF-F9A82F8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9CF9-4FBF-4014-95B6-1EF28038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2F7F-3B03-48D5-A150-393B8E5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2754-E14C-4CA1-8F8A-2AF69B1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36D3-E90D-4BD1-8067-ABCAA98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873C-B728-4B2E-8AE1-880CB64A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032C-FE5F-485C-8BA2-4914E20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4796-C214-414F-B6EB-8B53C7F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CDAF-CC77-4295-B0D1-D66FC72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CA24-E38A-4129-B38C-483D8D7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BBB-79C6-475E-B72E-4B09572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1510-709E-496F-8027-4BF4703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5B45-674C-4133-B71D-B2966FA7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05F7-AC09-4C0E-A86D-30BF7AA3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6173-C272-4119-BC12-ECD2EE89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3007D-21F0-4165-98A2-ABB3805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38C6-C850-4AC5-A4AA-30804D1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A4A6-4A28-4D6C-9353-358338E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AC08-E022-45AC-98F8-FCB5BB89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2F53-C52D-46D7-991F-3867C20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3D70-0DD3-42E1-A680-FA8CE9E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A7A-78DF-4C4B-B239-04A97BC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0BA4-7355-43A3-8F4D-35AD6498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7EFB-827C-4DA7-AA29-7624567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0485-C84B-4B21-8DF7-50FAC017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661D-6836-4420-B4AC-04CD08D3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D2BA-6F60-4D0E-96A9-C32ADD15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BBAA4-719B-4AE2-964C-D51AA13A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206D6-1BB8-465D-A3C0-56FB075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575D-F2E7-4C1B-8117-AEAF061A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152E2-70C6-49A5-9D46-8D786278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89C75-6C37-40D1-A9B9-67C88A8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00B-78AF-477B-8749-C285A1C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91C16-C525-4600-8ECB-D686A43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ED65C-ED29-4772-802E-D9E40CB6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68A6-9B3E-4970-8D02-97C1A08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7D02-87CE-47BE-A8D4-F1A142C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B7B06-847E-4849-BF61-D5C0D40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341A-F30D-40FB-8F9E-4F684CD3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45C3-AAC1-4FAC-97B6-0181B362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44842-E2D9-469C-9F98-2C5CA7D4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590DA-CF58-422B-94FE-975D5908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8FAF6-0706-41F0-82D7-8B875E3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94B-A57E-411C-B45D-33B029593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D4D-5696-4201-823F-D3DF44B66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2B3-9F70-43F9-BDB9-253406A7F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4BE-362B-49F8-A69D-87E32D70C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91C-DAED-4166-9940-4AAFD13BC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F4D3-482A-4177-B52F-67648BFBD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BED-4E6C-47CC-ABEE-F394D6DB2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0FA-CD5F-4460-ABDE-D73960548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BA8-271E-4A92-87B9-9386DDF5C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8B52-A612-4E4A-9488-274A53E28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61E-1A96-4720-BD04-5F47D9ECE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CDD-EB8E-4AE0-BD4E-54F0E15528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F49-8F3C-47B5-92C6-807E6DED7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6CF-8426-458C-9CF9-56BDF3AAC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31A-FA30-4143-918E-E369CE21E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5DF-CC1C-4E95-BE0E-AD72511E9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3AF-6B7D-4EC7-863C-DDB2F8497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24A2-2D58-47C7-8FD9-8AEBFB51E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BF24-53E6-4FD8-AB47-B82F5FF4A2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1D6-038F-489A-BCD7-7589B093E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EB9-5A4A-4E9F-A4B0-EF1D7462F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E66-FA28-4EFC-93BE-7AA6209EB9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617-0007-483B-BB62-14CC5F218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48B-4600-4C1C-B614-10C0E9D394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1D2-C224-4D35-AD43-980E7316F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23F-62B4-4699-9C29-4AEE25B5E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4E3-C8CE-4138-8B31-4A16338C3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AE33-F573-463F-9AA8-A1CF60247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D821-C504-4A51-8B5F-A754DCFD6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0770-31B1-4996-B301-20A41EF97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91C-7CD4-4318-B9FA-A0DD56337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44C0-D28D-41C8-8987-4EFC8370B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EE2-908F-4EB7-954E-59F11855B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25C-6FD2-4EAA-9156-140DFC204F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554-F67D-4095-8D28-FCB8A734F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C091-8A07-4830-9A01-322DC1B4B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304B-82D6-4BAF-AA1D-7AFF439EA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1733-7B2B-4383-A5C0-0761447933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2C16-8230-452A-B51C-F72F4EB1C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F38-EB86-41CF-ABDC-CF09EE75B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5A00-F190-4E26-A6F7-568BE77B1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1733-2E0A-4ADE-9D94-AA5EF8322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47880" y="3052800"/>
            <a:ext cx="36482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195120" y="1204920"/>
            <a:ext cx="8751960" cy="44481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8028000" y="2549520"/>
            <a:ext cx="792000" cy="412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179280" y="3198960"/>
            <a:ext cx="8713800" cy="4125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8713800" cy="412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179280" y="4508640"/>
            <a:ext cx="8713800" cy="4125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179280" y="5157720"/>
            <a:ext cx="871380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85760" y="1528920"/>
            <a:ext cx="8771040" cy="38001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81160" y="1585800"/>
            <a:ext cx="8683560" cy="4129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250920" y="2219400"/>
            <a:ext cx="86835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33280" y="1119240"/>
            <a:ext cx="86756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86868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52280" y="795240"/>
            <a:ext cx="8839440" cy="5267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2987640" y="2871720"/>
            <a:ext cx="1152720" cy="412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4500720" y="3514680"/>
            <a:ext cx="1152360" cy="4129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2663640" cy="4129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2268360" y="4840200"/>
            <a:ext cx="1295640" cy="4129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7308720" y="4869000"/>
            <a:ext cx="1656000" cy="4125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250920" y="5543640"/>
            <a:ext cx="871380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66680" y="1838160"/>
            <a:ext cx="8809200" cy="3181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1439640" cy="4125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465880" y="2579760"/>
            <a:ext cx="1439640" cy="4125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971640" y="3241800"/>
            <a:ext cx="4824360" cy="4125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2916360" y="3889440"/>
            <a:ext cx="71892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23920" y="828720"/>
            <a:ext cx="86947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438120" y="1085760"/>
            <a:ext cx="826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66680" y="933480"/>
            <a:ext cx="8809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62080" y="1062000"/>
            <a:ext cx="8618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3:06:1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